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7F6-5DA9-4626-98CA-03918E49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18B-7D57-4E26-97CA-D79D2EA7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A6D-2C88-4231-AF08-41902A6A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5D5-0BFB-4864-8340-AF675D6D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B16-1B8C-4877-8202-6F229AEF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B0D-B27B-4F99-B822-8D8FDFCE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0D9-B51E-425E-90F3-47CEEBCB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EC8-E9AF-4A09-9F46-4AF00751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242-24E6-4B30-8054-45AC9C7B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DB0-B368-4F30-A466-D712BF9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867-A2D4-41C4-8AA0-72A71C1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5E8-513A-4A9F-A435-76C14E77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6A6F-EF21-4AE7-927A-CF5A92B08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acus.org/files/images/STOCK%2520-%2520Russia.jpg&amp;imgrefurl=http://www.acus.org/new_atlanticist/russia-well-trade-missiles-defense-shield&amp;usg=__GJEnWrg1wEuMFg-X01NI32rJzP0=&amp;h=320&amp;w=400&amp;sz=20&amp;hl=en&amp;start=29&amp;zoom=1&amp;um=1&amp;itbs=1&amp;tbnid=pwzj4QCxnj_bYM:&amp;tbnh=99&amp;tbnw=124&amp;prev=/images%3Fq%3Drussia%26start%3D20%26um%3D1%26hl%3Den%26sa%3DN%26ndsp%3D20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us.org/content/stock-russia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cus.org/content/stock-russia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cus.org/content/stock-russia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us.org/content/stock-russia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360" y="3200400"/>
            <a:ext cx="693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b3da"/>
                </a:solidFill>
                <a:latin typeface="Bradley Hand ITC"/>
              </a:rPr>
              <a:t>By: Jennifer Zou, Jason Xiao, and Magdalena Wierzbow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000000"/>
                </a:solidFill>
                <a:latin typeface="Harrington"/>
              </a:rPr>
              <a:t> </a:t>
            </a:r>
            <a:r>
              <a:rPr b="0" lang="en-US" sz="3600" spc="-1" strike="noStrike">
                <a:solidFill>
                  <a:srgbClr val="e57e3f"/>
                </a:solidFill>
                <a:latin typeface="Harrington"/>
              </a:rPr>
              <a:t>S.S Per.1 / Mr.Griffith / Rm.13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533520"/>
            <a:ext cx="8077320" cy="23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What is Present Day Russia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a4849"/>
                </a:solidFill>
                <a:latin typeface="Papyrus"/>
              </a:rPr>
              <a:t>Free Market Economy /Free Enterprise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</a:rPr>
              <a:t>People can open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</a:rPr>
              <a:t>Chose their own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</a:rPr>
              <a:t>Workers can lose their jobs when a business dec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STOCK -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Snap ITC"/>
              </a:rPr>
              <a:t>Gover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Prices have r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Government built nuclear power plants which can cause disastrous consequences if uncont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Government no longer sets prices for foods or other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66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Federal republic/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STOCK -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Ravie"/>
              </a:rPr>
              <a:t>Government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Power is divided between national and state gover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A President leads this 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Russian president can issue orders that become laws even if they aren’t passed by the legisl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Officials have to learn how to accept disagreements over government poli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STOCK -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Wide Latin"/>
              </a:rPr>
              <a:t>Other Fa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urlz MT"/>
              </a:rPr>
              <a:t>Home to multiple different ethnic groups –some want to form their own, independent countries such as Chech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urlz MT"/>
              </a:rPr>
              <a:t>About 75% of Russia’s people live in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urlz MT"/>
              </a:rPr>
              <a:t>Large number of people living in poverty have to wait in line for food by govern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urlz MT"/>
              </a:rPr>
              <a:t>Urban, or city, areas are large and modern with stone or concrete buildings &amp; wide streets</a:t>
            </a:r>
            <a:r>
              <a:rPr b="0" lang="en-US" sz="2800" spc="-1" strike="noStrike">
                <a:solidFill>
                  <a:srgbClr val="99cc00"/>
                </a:solidFill>
                <a:latin typeface="Curlz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STOCK -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tencil"/>
              </a:rPr>
              <a:t>Facts continu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Juice ITC"/>
              </a:rPr>
              <a:t>Pollution is made by dirty smoke and dumped po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Juice ITC"/>
              </a:rPr>
              <a:t>Air pollution  causes many people to suffer from lung dis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Juice ITC"/>
              </a:rPr>
              <a:t>The life expectancy is shorter because of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Juice ITC"/>
              </a:rPr>
              <a:t>90% of the people speak Russian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Juice ITC"/>
              </a:rPr>
              <a:t>Many posperous people live in Mosc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0:35Z</dcterms:created>
  <dc:creator> </dc:creator>
  <dc:description/>
  <dc:language>en-US</dc:language>
  <cp:lastModifiedBy> </cp:lastModifiedBy>
  <dcterms:modified xsi:type="dcterms:W3CDTF">2010-12-20T14:01:52Z</dcterms:modified>
  <cp:revision>9</cp:revision>
  <dc:subject/>
  <dc:title>Present Day Russia</dc:title>
</cp:coreProperties>
</file>